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CE5-D013-40FA-AE46-A404E3E2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1E6-7B68-45C7-9072-8865E10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6398C-4DFF-4921-B7BF-DC097508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04EC0-5F83-4E53-8E9C-881EAB88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D9C39-94FE-4F57-9F1C-2DBB6ACA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BB89A-B365-4889-85A4-AAC811C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70E1B-2B34-42E2-B30E-5E386F6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3F36A-0C57-4772-B933-AA6CA84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04B82-9C38-4728-BAA4-318F2ED7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CE733-3B8E-4029-96AB-3D44B6A7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A03F-7A32-43D8-BA2E-9BF82808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A2974-CA12-4873-88A6-DE2290D1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14D-57C6-4B9B-8AD6-CD0E9FD0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3A339-3DAD-4AA3-992A-B3F058A3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27401-746B-4B2C-8EB1-3B293FD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CE3ED-437D-4295-91BB-33A2475F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EE6BA-4D00-4150-BC83-A53EA6AD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D4B36-C10F-4353-82A3-55B4160A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E4794-4BF6-4816-A23B-4286321C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3DAF6-7A69-4924-9467-8628560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312E9-BFD5-40A6-B04F-94E9C45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3632F-040D-4EF1-9C63-35529D6C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914D9-C48A-4F39-A495-4ADE2EDD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857-130C-45C0-9AEF-209A1762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9B0DB-9120-452C-AAF9-4760066B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56346-54B9-4BAA-8943-85C52E89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19D17-5645-44CF-A459-8013C0E5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6829-F2C4-4BD9-AAD1-498916E0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C0033-C157-4130-9255-F46DD44D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FDF5A-525D-492A-89A9-ECD0556E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D64D8-C107-4809-89B4-06D91A39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7251A-B4FB-4C68-8D14-1FB1D27B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36EF2-A97D-475F-9AB6-B3DD522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3494F-6521-4980-A06C-48C6FDC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7CA5-35E5-4ABE-835F-277DD533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FA3D-E13C-400A-8338-F95A94F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446D6-8F68-4127-8FE7-167AF12A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A84D7-9183-4D95-9BDE-5DF9D371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E359A-0EE6-4B2C-A797-32E3F4AB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09E9-2CDA-4DA6-BC2D-8340DAFD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1124A-CB4B-4AAA-B554-77FA58B3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C740D-90C2-4668-B07E-47681F5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C17DD-4A9C-4AE4-8C51-107511B7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4A27E-D103-419B-9386-5FB780CC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7B7D6-5A31-43F1-9538-F538200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E230-04D2-4334-BE7E-A5C26964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C83DC-E911-41A3-A755-95914D6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A8DDA-EFC3-4929-83A0-680C7D1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FBB80-7291-4D6A-B7A7-178BE9F3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5B3C3-D60E-4814-9AE1-8A926C0D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868A5-274E-4E2C-82BF-9615C925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A700-EAC9-4EF4-8260-E67935DA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E2DA-C4A5-430B-A854-A802075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9CDD-25DA-4104-A39D-229BDF7C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C4C-547F-481B-AEB6-EDF5E35A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001B-0086-4A77-9ECD-CCBE9FB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B53-6C93-419A-895C-931BE9D8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AE3B-20B1-4539-9406-708ABBB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A36A-49C8-4E8D-910E-1567B78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C6DD-EB73-4AA7-A804-74F42415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7545-359F-4705-A335-28CF7C47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9B9-8678-42C7-B3F5-C67EA09E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C8FA-E783-4A71-883A-9C063E34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8DBE-682C-436D-9BC9-B2344E93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5C5C-9B48-4AE2-8FDD-33536AA1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3BBA-A5C7-49C3-AA7F-1F605F39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B48E-6571-4E93-9210-3DF534B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E58-10F7-4975-AC88-DA91334C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6CA22-6F7A-4471-9C1A-6331209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2286-994A-47AA-9005-60A73C1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9F36-D5B3-479A-B2C3-A28C319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8B13-E76C-4B90-9A94-B42FB5DB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8395-89C1-47FD-BCA8-E7435842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779E-BE87-412A-8EA5-382CA108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A539-E344-4B56-9ACE-F777566C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3837-F323-466A-926F-6477ABB2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607E-6460-416A-BF0A-DE538EA0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CA6B-E52B-4659-9CB0-7F5D618A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E09-D8D8-4C0E-9747-AE472EAD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0963-CDDA-4928-B68D-586E69A0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D837-CF4A-4C31-B40C-C5AAA1E6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1C5E8-9BAB-4B29-AACE-2B299E87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E407-B56E-48EF-86CF-621B6E42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B057-7B30-4E55-9851-BCDC5688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33472-722E-415D-90EA-C90E303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E7FC-5EAB-4A66-B290-221F12A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D69F-19AF-4C82-ADD8-0200E0F7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1B5F3-5333-48C0-9ABF-DE21769F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9113-AF7C-4625-AC38-A78E4E44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8AF-3399-4C36-A176-845A8D3C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3F89-1C78-47DA-8363-9898112F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01C7D-190E-4A6A-93CF-D284C6FD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ADEF-737C-41F6-9C89-690FA901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2F654-694E-470A-9777-113AB123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37ED8-954F-4A04-ABF2-43E838E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3EF9B-86BA-4C66-889A-9585625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FA33-8762-4B19-B8E7-1BFA6435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0D508-1976-4398-90D4-2FEDC01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AE45-4F41-4136-B57C-BD23578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A646-0D33-4B87-A6B1-1D7BC996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6BA-C9CC-414F-985F-1137CDD6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3753-40AA-40D1-ABC4-74899398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3E6C-8A3C-4D4C-BCE3-EB614220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41BE8-50EF-4F2A-A71B-D7AE657E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E1C19-3C5C-4C81-8EAB-8ECB57BF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D7FA-3E11-49BF-9AA8-2F5BFBA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EC18D-7A91-4A8C-B1AB-47B6BB8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3730E-24A3-4717-B1B4-90AACE76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F74E6-3F9F-48B3-BBFF-D0000D26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4B925-B37A-4633-BCA0-F88FDAD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C8985-AFFC-453F-AE03-0A99C58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3B1-83E1-4650-8648-5FEDDFFC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583E-A7C1-48A9-A963-9091D84C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621B-4605-4CF7-BBC9-44B61DDC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6187-754D-4FA5-8947-87A2DC3E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909E6-C019-4459-9F3B-F320E48D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FBD9-B761-415D-BAA0-A6B8E2B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B9F7F-5DC4-4A06-81B3-35652B0B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7012-3BE8-4B1F-892B-854800A3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BF5BC-F5EB-457A-88F6-DBBC6001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EF69-11C1-4547-B4A4-F4E3CA89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5FCF-AC8B-4D69-8978-20678EDA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149-FAD2-46A4-A5D2-A1E5A20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E53EE-7B0D-492F-8529-EF5D7D0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38951-91E2-4AF8-9D42-19D100A7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FF74-B871-419B-AF8C-67D22936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96EFD-70A8-4D5C-9F32-816785C5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4256-4A21-4127-86CB-406AB954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DFF9-8EA5-4F12-9F6E-B026EA48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0FB1B-D64D-476D-8271-2D939A2E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D594-798D-4CF3-836C-95E9C90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05A7-B7BA-426D-8EC9-3270B33C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26573-28AF-42B5-AF62-E4A4D034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071-8D21-4201-BE16-37148C0E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6803-EEBE-443A-8459-82DE5DB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F7A57-ECFE-4A0B-A003-1FD09A8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0F916-7594-4FCC-A907-4600A473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DAA9D-A446-431F-BD73-679C847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2DE67-99D3-47A9-B214-020295E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B2EEA-775A-423B-8DA9-AE5DBA7F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8CD2-1ABA-4783-9406-E7EEEB14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1E4C6-C175-4B9D-B163-8F7B1A10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03BFD-F40B-4942-982B-8BD83BCB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A718C-5A34-4B53-BAD1-E2029720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5F1C-ED6E-4ED5-864F-DD1776CEE0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0586-323D-448E-B702-4D23892264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8301-CA62-46EE-A1AA-4CF45383D9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9931-F405-4876-AD70-40BEEBD127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90C7-7C64-4392-8C00-E7CD32D69A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18B7-419E-4D1A-A44E-49053FE0D3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0124-2869-4533-BA64-BFA4848E4A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3643-B674-47B2-B13A-FCDBE09387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61FC-C5F2-4DC1-9109-C13E5AA4AF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09F-6E45-4790-96F2-29DF6CA8139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FB5-4DDF-4450-A4FD-BD50B4B038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3D78-455A-48E4-A2DF-3F06AE4038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8 Pán Ježiš je môj živ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môj živo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i mrieť chcem len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neho svet je prázd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slávne zvíťaz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ch smrti nedesí u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hrobu neľa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ňa Pán mrel na kr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láska odvek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koro pominú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ľ, úzkosť, súž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zkriesením mi 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slávy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oc sa sila strá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ych už krátky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ducha svojho je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navždy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rdca tlkot stích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hasne svetla lúč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pánku zobudí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Božej lásky kľúč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ôle svojho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v hrobe spočinú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 sľub jeho chcem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teraz spoľah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dnes tvoj čakám prícho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viera výhľad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plníš moju nád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Láska víťazn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25:37Z</dcterms:modified>
  <cp:revision>22</cp:revision>
  <dc:subject/>
  <dc:title>Je veľký náš Pán, on slávy je Kráľ Nech do všetkých strán  spev vrúcnych znie chvál.</dc:title>
</cp:coreProperties>
</file>